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7667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590-F883-4520-B6D2-F33F0EA4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388-73D7-42D8-8D69-3386D8AD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A38-CB68-4B28-A9B6-24F4CD84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D81-2ED6-4DAD-9AEB-EE4A0DE9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189-5F24-4D16-A3C7-63BEC1CE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997-C521-41B9-9503-9DC7C02A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A51-50AC-4FD1-B53F-84491D4F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4BD-7139-497D-BD85-3A63DCFA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22A-054E-4B6B-858A-831A81B4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9D4-3F73-408A-A655-885110AD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B23-4AA7-4368-B377-1B77F3A8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DC4-19A7-47A1-95B2-177D74BB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FD13-FBD4-477A-9DAD-D9D6CDC87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562040"/>
            <a:ext cx="609624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360" y="1746360"/>
            <a:ext cx="82072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Norvēģijas valdības divpusējā finanšu instrumenta līdzfinansētais 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333399"/>
                </a:solidFill>
                <a:latin typeface="Arial"/>
              </a:rPr>
              <a:t>Individuālais projekts Nr.LV0024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lv-LV" sz="3600" spc="-1" strike="noStrike">
                <a:solidFill>
                  <a:srgbClr val="333399"/>
                </a:solidFill>
                <a:latin typeface="Arial"/>
              </a:rPr>
              <a:t>Latvijas probācijas un ieslodzījuma vietu sistēmas personāla kapacitātes celšana” 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Arial"/>
              </a:rPr>
              <a:t>Mihails Papsujevič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rojekta vadītāj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47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jekta īstenotājs un partn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2224080"/>
            <a:ext cx="885672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Arial"/>
              </a:rPr>
              <a:t>Īstenotājs: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 u="sng">
                <a:solidFill>
                  <a:srgbClr val="333399"/>
                </a:solidFill>
                <a:uFillTx/>
                <a:latin typeface="Arial"/>
              </a:rPr>
              <a:t>Valsts probācijas dienest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Arial"/>
              </a:rPr>
              <a:t>Partneri: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333399"/>
                </a:solidFill>
                <a:latin typeface="Arial"/>
              </a:rPr>
              <a:t>- Norvēģijas Nacionālais mediācijas dienest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333399"/>
                </a:solidFill>
                <a:latin typeface="Arial"/>
              </a:rPr>
              <a:t>- Ieslodzījuma vietu pārvalde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1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jekta mērķ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Arial"/>
              </a:rPr>
              <a:t>probācijas sistēmā un ieslodzījuma vietās nodarbināto kompetences un darba kvalitātes paaugstinā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Arial"/>
              </a:rPr>
              <a:t>vienotas pieejas veidošana apmācību un pētnieciskā darba organizēšanā Valsts probācijas dienestā un Ieslodzījuma vietu pārvaldē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Arial"/>
              </a:rPr>
              <a:t>Finansējums – 869 996 EUR </a:t>
            </a: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(85% Norvēģijas valdības finanšu instruments, 15% Latvijas valsts finansējums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4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jekta plānotie rezultā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35 apmācību semināru organizēšana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548 probācijas dienesta un ieslodzījuma vietu sistēmas darbinieku apmācība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3 apmācību programmu izstrāde probācijas un ieslodzījuma vietu sistēmas darbiniek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mācību vizīšu organizēšana 71 darbinieka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koncepcijas projekta izstrāde par pētniecības un apmācību jautājumu attīstību probācijas un ieslodzījuma vietu sistēm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zstrādāt Valsts probācijas dienesta un Ieslodzījuma vietu pārvaldes pētījumu plānu 2010. – 2013. gada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īstenot 3 pētījumu iniciatīva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7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jekta sasnieg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i </a:t>
            </a: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54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apmācību semināri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apmācīti </a:t>
            </a: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916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probācijas dienesta un ieslodzījuma vietu sistēmas darbinieki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zstrādātas 3 apmācību programmas probācijas un ieslodzījuma vietu sistēmas darbiniek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as mācību vizītes </a:t>
            </a: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85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darbiniek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zstrādāts koncepcijas projekts par pētniecības un apmācību jautājumu attīstību probācijas un ieslodzījuma vietu sistēm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zstrādāts Valsts probācijas dienesta un Ieslodzījuma vietu pārvaldes pētījumu plāns 2010. – 2013. gada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īstenotas </a:t>
            </a: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5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pētījumu iniciatīva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0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ozīmīgākie ieguvu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333399"/>
                </a:solidFill>
                <a:latin typeface="Arial"/>
              </a:rPr>
              <a:t>Apmācības: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16 darbinieki apmācīti par ,,Motivējošās intervēšanas” metodes lektoriem – un māca citus darbiniekus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mācību vizītē gūtās atziņas par citu ES valstu pieredzi sabiedrības iesaistē darbā ar likumpārkāpējiem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izstrādātas apmācību programmas probācijas un ieslodzījuma vietu sistēmas darbiniekiem un īstenota atsevišķu šo programmu moduļu satura izstrāde un aprobācija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sadarbībā ar Norvēģijas Nacionālo mediācijas dienestu pilnveidots Latvijas brīvprātīgo izlīguma starpnieku apmācības process 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333399"/>
                </a:solidFill>
                <a:latin typeface="Arial"/>
              </a:rPr>
              <a:t>Pētījumi: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Recidīva rādītāji, to noteikšanas kārtība un piemērošana Valsts probācijas dienesta un Ieslodzījumu vietu pārvaldes darbā”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Rezultatīvo rādītāju sistēmas un datu analīzes prakses izpēte Ieslodzījuma vietu pārvaldē un Valsts probācijas dienestā”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3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3828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11:22Z</dcterms:created>
  <dc:creator>Kristaps</dc:creator>
  <dc:description/>
  <dc:language>en-US</dc:language>
  <cp:lastModifiedBy>mihailsp</cp:lastModifiedBy>
  <dcterms:modified xsi:type="dcterms:W3CDTF">2011-01-05T09:51:49Z</dcterms:modified>
  <cp:revision>24</cp:revision>
  <dc:subject/>
  <dc:title>Slide 1</dc:title>
</cp:coreProperties>
</file>